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46E0-DB5B-4EDE-BB74-D71FA9112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9CE6-B50B-4512-B8C0-C45E73504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B566-9E26-460D-BD11-1DDBC088F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ibfoodchemistry.saschina.wikispaces.net/F1+Food+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3AF0-F1A3-4068-980A-05C144C22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346E-522D-41F6-9600-FD8C003BC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unctionalfitmag.com/blog/2012/07/30/protein-foods-protein-powder-2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8550-28C1-4BFF-81AD-75FE35EE8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cl.ac.uk/~sjjgsca/ProteinStructur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543B-A9C7-44E6-A5CB-60B7A458F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7AF7-F581-4D0D-A85B-5673E27ED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herdaily.com/health/892/the-effects-of-food-additives-and-preservatives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F11C-74E4-498A-8A87-C9223C618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cienceinafrica.com/old/2006/december/oil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1B31-E8A1-4A4D-9C32-5A4594D07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6FAA-94BC-45F0-BF40-9D8C2D66E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oolwizardswi.com/?attachment_id=2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DF4B-A169-4E34-BDB6-C1D95C48E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2346-3E86-4078-A460-E30C9A26A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0C00-1580-4094-B608-DD5AD4882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anolarecipes.com/food-fact-or-fa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C781-290E-487F-A860-432F39AC8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ofwindsor.com/index.php?title=File:Canada_Food_Guide_2012_side_0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6E6A-491D-4CC6-9461-B2B3AAEAE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hermic animals require more energy to keep their bodies at a constant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6A4A-3DA0-4024-89C6-E63379D88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513E-A4C7-4C44-A3AC-B2E493A95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126A-A995-461B-B9A3-8B8556F4F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C1F3-D2EC-4B9E-9831-B50D0D74A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ents = chemicals that an organisms needs to grow, build &amp; repair tissues, and to produc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1772-9BA3-4893-9258-860646D95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lifetime-fitness.ca/pages/meet-our-trainers/trainer-tips--nutritiona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F117-5077-49C1-B2A6-5B825DFBE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amerthehammer.com/2010/12/04/understanding-ingredient-labels-todays-tip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EB8C-C8C2-4AB0-8D4E-4123CEC8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B10C-FD41-4EBB-A70F-7058C985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D078-F11F-43F8-BE1D-87A82D1CD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6D20-6924-45A0-91CC-E09AF2BFB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5F85-14E8-4708-B647-AF9B76E3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807F-21E2-438A-989B-471BFE38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38CC-8A1A-4F0E-8375-2A30D3CE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1042-5B52-4DE0-BA09-127B9A89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2061-9E7E-4F71-84FB-BBE84B2E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FE29-3099-4047-8437-91D4F865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9C6C-842B-4300-A34C-250C878F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11B6-7DFA-4A74-B181-5E2BBAAB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21B9-580A-4C2D-B4AE-F4C4CD67C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s://www.canada.ca/en/health-canada/services/canada-food-guides/revision-process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s: Structure &amp;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562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&amp; What We Need to 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1 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carbohydrate-diagram"/>
          <p:cNvPicPr/>
          <p:nvPr/>
        </p:nvPicPr>
        <p:blipFill>
          <a:blip r:embed="rId1"/>
          <a:stretch/>
        </p:blipFill>
        <p:spPr>
          <a:xfrm>
            <a:off x="1017720" y="609480"/>
            <a:ext cx="7108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Carbohyd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osacchar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acchar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ysaccharides (starch, cellulose (fibre), glycoge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ored as glyco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cess stored as f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ifferent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y in size &amp; shape but same basic structure (amino acid ch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-30% of d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High-Protein-Foods"/>
          <p:cNvPicPr/>
          <p:nvPr/>
        </p:nvPicPr>
        <p:blipFill>
          <a:blip r:embed="rId1"/>
          <a:stretch/>
        </p:blipFill>
        <p:spPr>
          <a:xfrm>
            <a:off x="4419720" y="2509920"/>
            <a:ext cx="4495680" cy="30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peptide1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for energy, but mostly for many other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energy-storage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in cell membranes, some hormones, insulation  of organ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 to 30% of d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01_01_junkfood"/>
          <p:cNvPicPr/>
          <p:nvPr/>
        </p:nvPicPr>
        <p:blipFill>
          <a:blip r:embed="rId1"/>
          <a:stretch/>
        </p:blipFill>
        <p:spPr>
          <a:xfrm>
            <a:off x="4705200" y="1981080"/>
            <a:ext cx="369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oil1"/>
          <p:cNvPicPr/>
          <p:nvPr/>
        </p:nvPicPr>
        <p:blipFill>
          <a:blip r:embed="rId1"/>
          <a:stretch/>
        </p:blipFill>
        <p:spPr>
          <a:xfrm>
            <a:off x="977760" y="609480"/>
            <a:ext cx="7188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ty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aturated f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urated f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 f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tty acids (e.g., omega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body is 55-60%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for cell cytoplasm, chemical reactions, to digest food &amp; eliminate was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L of water a day recomm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tamins &amp; Min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very small am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-soluble vitamins (A,D,E,K) vs. water-soluble vita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s such 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lci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hosphor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important for your bones;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r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mportant in your blood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we need to 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ada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Food Gu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Canadas-Food-Guide"/>
          <p:cNvPicPr/>
          <p:nvPr/>
        </p:nvPicPr>
        <p:blipFill>
          <a:blip r:embed="rId1"/>
          <a:srcRect l="0" t="4626" r="0" b="4626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643280" y="1773360"/>
            <a:ext cx="3889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go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 nutri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risk of chronic diseases/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version is from 2007 &amp; is being reviewed &amp; updated (se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Canada_Food_Guide_2012_side_02"/>
          <p:cNvPicPr/>
          <p:nvPr/>
        </p:nvPicPr>
        <p:blipFill>
          <a:blip r:embed="rId1"/>
          <a:stretch/>
        </p:blipFill>
        <p:spPr>
          <a:xfrm>
            <a:off x="152280" y="1427040"/>
            <a:ext cx="891540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 =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abo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all of the chemical reactions that occur in your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tabo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catabolic rea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abo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abolic rea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bolic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rate at which body converts store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to working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 body size, physical activity, sex, age, hereditary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al metabolic r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BM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metabolic rates of endothermic vs. ectothermic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uch energy do you u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eping…4.1 kJ/kg/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ting…5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ing…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computer keyboard…9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king 3.2 km/h…11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ning 12.9 km/h…6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able 1, page 3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&amp; How Much We Need to 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 Essential Nutri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pids (fa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ta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ily used as a source of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 in fruits &amp; vegetables and gr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5% of your d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Carbohydrate-food-shot--350"/>
          <p:cNvPicPr/>
          <p:nvPr/>
        </p:nvPicPr>
        <p:blipFill>
          <a:blip r:embed="rId1"/>
          <a:stretch/>
        </p:blipFill>
        <p:spPr>
          <a:xfrm>
            <a:off x="4648320" y="2652840"/>
            <a:ext cx="380988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suga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gm_fiberone-1-293x300"/>
          <p:cNvPicPr/>
          <p:nvPr/>
        </p:nvPicPr>
        <p:blipFill>
          <a:blip r:embed="rId1"/>
          <a:stretch/>
        </p:blipFill>
        <p:spPr>
          <a:xfrm>
            <a:off x="2562120" y="1981080"/>
            <a:ext cx="401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30T16:41:04Z</dcterms:created>
  <dc:creator>rubina khan</dc:creator>
  <dc:description/>
  <dc:language>en-US</dc:language>
  <cp:lastModifiedBy>rubina khan</cp:lastModifiedBy>
  <dcterms:modified xsi:type="dcterms:W3CDTF">2018-05-24T15:15:12Z</dcterms:modified>
  <cp:revision>101</cp:revision>
  <dc:subject/>
  <dc:title>PowerPoint Presentation</dc:title>
</cp:coreProperties>
</file>